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4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3.jpeg" ContentType="image/jpeg"/>
  <Override PartName="/ppt/media/image28.wmf" ContentType="image/x-wmf"/>
  <Override PartName="/ppt/media/image10.png" ContentType="image/png"/>
  <Override PartName="/ppt/media/image47.png" ContentType="image/png"/>
  <Override PartName="/ppt/media/image49.jpeg" ContentType="image/jpeg"/>
  <Override PartName="/ppt/media/image34.wmf" ContentType="image/x-wmf"/>
  <Override PartName="/ppt/media/image42.wmf" ContentType="image/x-wmf"/>
  <Override PartName="/ppt/media/image43.jpeg" ContentType="image/jpeg"/>
  <Override PartName="/ppt/media/image44.wmf" ContentType="image/x-wmf"/>
  <Override PartName="/ppt/media/image40.wmf" ContentType="image/x-wmf"/>
  <Override PartName="/ppt/media/image48.jpeg" ContentType="image/jpeg"/>
  <Override PartName="/ppt/media/image31.wmf" ContentType="image/x-wmf"/>
  <Override PartName="/ppt/media/image38.jpeg" ContentType="image/jpeg"/>
  <Override PartName="/ppt/media/image39.wmf" ContentType="image/x-wmf"/>
  <Override PartName="/ppt/media/image5.wmf" ContentType="image/x-wmf"/>
  <Override PartName="/ppt/media/image35.wmf" ContentType="image/x-wmf"/>
  <Override PartName="/ppt/media/image9.jpeg" ContentType="image/jpeg"/>
  <Override PartName="/ppt/media/image11.jpeg" ContentType="image/jpeg"/>
  <Override PartName="/ppt/media/image8.wmf" ContentType="image/x-wmf"/>
  <Override PartName="/ppt/media/image27.jpeg" ContentType="image/jpeg"/>
  <Override PartName="/ppt/media/image50.jpeg" ContentType="image/jpeg"/>
  <Override PartName="/ppt/media/image13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23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5959-92BF-407A-9E4B-D87AD9B5880E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 INTERNACIONALES AGRICOLAS: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XPORTACIONES DE PAPRIKA SIGUEN AUMENT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muchos pensábamos que la producción de páprika había alcanzado su techo, los volúmenes exportados vienen aumentando mes tras mes y los valores unitarios (FOB) alcanzan niveles que no se registraban desde el año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 datos hasta el 20 de mayo, las exportaciones alcanzan las 11 mil toneladas, faltando 4 mil para igualar las cifras de los años 2002 y 2003. De mantenerse esta situación, podríamos cerrar el año con 20 mil toneladas exportadas y superar los US$ 30 mill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1A4-6675-4CBC-B603-A83469D2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638F-29E1-4411-80A2-21953342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AF4-6D54-419D-B8D2-CF41FEF4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FFFD-8FE6-4E5C-85A2-DE9DBCEF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6DEF-86A1-4951-9F8D-A7FC239B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CF91-E0B9-49BF-A44B-88870285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3D24-AEB1-4B0F-8DAC-C8FE3350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2F48-8670-4705-B32C-D43F128E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9CA3-A20E-4B10-BCDD-475308D7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18B7-CA8D-48D1-8872-9C3A50CF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A416-7B0E-4A6E-A346-A0069514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091-99FE-445A-971B-CDE04EBD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42D6-148D-4874-875D-7DA03181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62F1-B592-48F1-812F-88074188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759B-6078-45B9-BC8F-362A4D83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D7F5-474F-4BBA-BE46-BDD532EC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E99C-ADB3-4ADE-9F8C-7B1D93C2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050C3-B897-4CCC-B5AC-8157A120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BF576-8259-4023-A4B7-3B22A8E5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2A8FA-BDBE-4029-AE95-FD567827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CBF07-943A-4A98-8847-0E0FC49B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7D111-4D0F-45BC-A808-738DABCA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487B-3C87-4C79-83F6-74E4DA68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1E38E-DE06-4042-92D5-180FA099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14586-9FF3-4837-B8A8-2BC85398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7FF11-102A-4709-BA93-207B9798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8CE98-6055-4EDC-BE21-E9187456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727F8-9989-4BFF-95D6-C5A0EE9F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5F161-94D9-4094-911D-F2D992F5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4487F-4586-4BDB-93DE-C6B098F6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FE4BC-DB1B-4672-AEBC-167FB54D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6A485-41F0-4448-8381-22567B4B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B822E-F6C8-402F-BEA2-A3B75F73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C9AC-E573-4DC5-B221-4E34C455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58C27-CFBE-4B20-97DF-52FF2F1A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CCEB4-2909-4DF1-83B0-F2BC84B1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12FC1-48E6-4EBB-81D9-B48F8D63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AB11A-0567-41F7-B76B-B2EEE5CA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42111-AD98-4351-A7E3-1B86DB2C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5BCAB-6486-44BA-86B9-A173A441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18A34-51A0-4486-A696-EF5E353B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4C51C-8CAC-4233-A5F1-C104E472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9949D-D7CB-488C-8E2A-C8BDACD9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141B0-D3AB-413B-803A-8B95B2FC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3AB-A5E0-429C-8D48-D1336E6C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0961E-F478-432E-95D4-54AFDB60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806EC-DBE0-4D59-AF3A-8F55E2D5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C6F08-690D-4B41-8415-F5A156D7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AD35B-D4ED-469C-91E6-7D24D902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A4432-FAFA-4AAD-9B28-129C1606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31394-1920-454F-BD57-CAF55626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89F36-FCDD-4F4B-9E81-8EDEE8A9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6EF20-3AF9-4032-B9BE-E35C99AC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7B56E-13D1-4CAB-A5C7-10B75FEA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A9DBD-6096-4E23-9948-535121E4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3DA6-0714-4BB4-817E-2D7C9FA4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D0CFD-B622-42A9-BEE1-6811EFC7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3F99C-A3DA-4AC1-86D5-983E3A15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5DBC9-FC0B-4FF9-B2D6-53B7A719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02248-0643-47E2-A94C-5CF6D497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D378E-99D2-4DD1-B1B6-1ED3BFF4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BD12A-4EB5-4233-B326-D83EE276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0F33E-0B29-48DA-B196-EB8410CF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A0BBC-ACE8-491F-A91B-D04AFB82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D1C98-0AA4-4644-B0AC-6E8A2822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41B99-80DF-4DC3-9788-AA00B684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9F95-9F90-4E66-B674-1251C66C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0CCD3-2F66-4BB2-A5BF-1406F299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AE608-BFA5-4EB9-ABB2-817F38ED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54518-1AB0-4D45-9C71-D250E5D2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0CCCA-F3FD-4DB7-B9F2-A9875385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96DAB-F917-4974-9A46-8E55A7AA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63D32-0772-4477-A562-EE40AC18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695D7-2AAE-4F61-B2F1-41D6F9B0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533A4-6B59-470B-B128-398C61BC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E048D-1EA6-4972-BA6E-011B5BCF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1EAB3-9597-4D85-91DE-02EA9540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50B-C638-4833-BA6F-1AA0F4B2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96931-8BCE-4E09-9C7E-0DC3CCF0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C707F-E03A-4CF8-8051-5CC41196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9DBAC-FECD-4B49-95EF-97C986DD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646AA-27DA-46B6-A480-76A64A50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E56E3-2171-4EC2-BC78-280BAA05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9C08C-9FCE-4F30-AE21-5C047AD3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57EAB-CF78-4D12-9F4E-75B987F4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B44AF-67AA-4486-9BAB-B0AC3D55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642F7-B977-4A49-8D6A-26FEA57D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5CAB2-8C92-4A05-A9D3-434FBE2E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C6D-FECD-4138-A78D-535CA002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7A658-7744-433B-937B-EEFFF3C3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E1601-A15B-4DD7-921D-3B13650B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D08D5-9D10-41C3-82D4-1E997A67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F03F6-152A-4526-99CB-B1CC38A2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0A741-BEDF-47A3-A3D0-29C641C7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E94B3-41C1-4BB0-9744-6C9D08A7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58DCB-0DF2-4066-BE26-1C0C74A6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421E-FA65-4B91-A1B6-63A35A9EE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14F4-C2BE-4D23-B031-FB4FA9908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9210-B15C-4220-8837-EBEC4FA49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B0F3-C196-49B3-836E-A92D4433F4E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C534-4E45-49EA-9B5B-895EBAE3A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62DC-A40C-43D4-AE44-0520326BA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EB0A-2214-4177-AC3E-E2CC02ADA6E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25B8-1BD5-4210-8923-0E0B6050B6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449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50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45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46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47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47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48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50920" y="-171360"/>
            <a:ext cx="687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CAF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-1800" y="969840"/>
            <a:ext cx="9145800" cy="5785200"/>
            <a:chOff x="-1800" y="969840"/>
            <a:chExt cx="9145800" cy="5785200"/>
          </a:xfrm>
        </p:grpSpPr>
        <p:sp>
          <p:nvSpPr>
            <p:cNvPr id="49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0" y="969840"/>
            <a:ext cx="9144000" cy="536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69840"/>
                      <a:ext cx="9144000" cy="536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500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509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979640" y="0"/>
            <a:ext cx="716436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PORTACION DE PAPRIKA EN KG Y PRECIOS REFERENCIALES FOB US$/KG AÑOS 2002, 2003 Y 2004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7360" y="915840"/>
            <a:ext cx="8966160" cy="5895360"/>
            <a:chOff x="117360" y="915840"/>
            <a:chExt cx="8966160" cy="5895360"/>
          </a:xfrm>
        </p:grpSpPr>
        <p:graphicFrame>
          <p:nvGraphicFramePr>
            <p:cNvPr id="518" name=""/>
            <p:cNvGraphicFramePr/>
            <p:nvPr/>
          </p:nvGraphicFramePr>
          <p:xfrm>
            <a:off x="117360" y="915840"/>
            <a:ext cx="8966160" cy="53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7360" y="915840"/>
                      <a:ext cx="8966160" cy="53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0" name=""/>
            <p:cNvSpPr/>
            <p:nvPr/>
          </p:nvSpPr>
          <p:spPr>
            <a:xfrm>
              <a:off x="136440" y="6504120"/>
              <a:ext cx="53499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ADEX – ADUANAS           *Datos hasta jul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42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52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4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531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3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539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1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79280" y="43920"/>
            <a:ext cx="70930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CAO EN GRANO: PRECIO NACIONAL EN CHACRA Y PRECIO INTERNACIONAL (US$ / LIBRA) AÑOS 1993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40" y="836640"/>
            <a:ext cx="9112320" cy="6154920"/>
            <a:chOff x="1440" y="836640"/>
            <a:chExt cx="9112320" cy="6154920"/>
          </a:xfrm>
        </p:grpSpPr>
        <p:graphicFrame>
          <p:nvGraphicFramePr>
            <p:cNvPr id="546" name=""/>
            <p:cNvGraphicFramePr/>
            <p:nvPr/>
          </p:nvGraphicFramePr>
          <p:xfrm>
            <a:off x="1440" y="836640"/>
            <a:ext cx="9112320" cy="547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0" y="836640"/>
                      <a:ext cx="9112320" cy="54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8" name=""/>
            <p:cNvSpPr/>
            <p:nvPr/>
          </p:nvSpPr>
          <p:spPr>
            <a:xfrm>
              <a:off x="1440" y="6107040"/>
              <a:ext cx="181908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Fuentes: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Internacional : IC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Nacional : MINA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555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562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4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60" y="765000"/>
            <a:ext cx="9140040" cy="6092280"/>
            <a:chOff x="3960" y="765000"/>
            <a:chExt cx="9140040" cy="6092280"/>
          </a:xfrm>
        </p:grpSpPr>
        <p:sp>
          <p:nvSpPr>
            <p:cNvPr id="566" name=""/>
            <p:cNvSpPr/>
            <p:nvPr/>
          </p:nvSpPr>
          <p:spPr>
            <a:xfrm>
              <a:off x="3960" y="6519960"/>
              <a:ext cx="158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31680" y="1262160"/>
            <a:ext cx="9033120" cy="5214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680" y="1262160"/>
                      <a:ext cx="9033120" cy="521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7391520" y="765000"/>
              <a:ext cx="1752480" cy="10670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58600" y="85572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80360" y="105408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244000" y="1054080"/>
              <a:ext cx="900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03,8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13,7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gt;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92000" y="-162360"/>
            <a:ext cx="6551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ECHE: PRODUCCION NACIONAL (TM) Y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ECIOS ESTABLO (US$ / KG) ene 02 – jul  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578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1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3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1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5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3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7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5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48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692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OCIACION CIVIL “TIERRA” MOLINO SAN MARCO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Tar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553440" cy="333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58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59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362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979640" y="44280"/>
            <a:ext cx="7164360" cy="7261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78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79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71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TRUCTURA DEL VALOR AGREGADO DE LA MIN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73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c80">
              <a:alpha val="5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419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9640" y="282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66520" y="2602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4683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-720" y="746280"/>
            <a:ext cx="9179640" cy="6337440"/>
            <a:chOff x="-720" y="746280"/>
            <a:chExt cx="9179640" cy="6337440"/>
          </a:xfrm>
        </p:grpSpPr>
        <p:sp>
          <p:nvSpPr>
            <p:cNvPr id="389" name=""/>
            <p:cNvSpPr/>
            <p:nvPr/>
          </p:nvSpPr>
          <p:spPr>
            <a:xfrm>
              <a:off x="0" y="4002120"/>
              <a:ext cx="9144000" cy="2855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2.-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Reactivos, bolas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acero, explosiv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576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Sustitu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de importa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1554120"/>
              <a:ext cx="36576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3.-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Carros mineros, celd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de flotación, molin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Reparación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76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Producción baj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licencias pa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rcados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6400" y="2362320"/>
              <a:ext cx="36576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3170160"/>
              <a:ext cx="18288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4.- Ingenie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y consulto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49320" y="3184560"/>
              <a:ext cx="1828800" cy="807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99360" y="3182760"/>
              <a:ext cx="184464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57600" y="3182760"/>
              <a:ext cx="36576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acional (salvo especialidade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4272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4638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5373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574056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1070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50054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720" y="404028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5.- Entor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560" y="4368960"/>
              <a:ext cx="756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nergí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200" y="507996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Puert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280" y="5433840"/>
              <a:ext cx="976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Urbanism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40" y="5815080"/>
              <a:ext cx="76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Vialida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560" y="6181560"/>
              <a:ext cx="994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ducación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07160" y="4356000"/>
              <a:ext cx="1807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4272120"/>
              <a:ext cx="0" cy="22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1600" y="4292640"/>
              <a:ext cx="610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G. Electrógenos            C. Hidroeléctricas             Interconexión eléctrica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840" y="4699080"/>
              <a:ext cx="56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Agu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57600" y="4272120"/>
              <a:ext cx="0" cy="25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6400" y="4272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69200" y="4660920"/>
              <a:ext cx="4889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Sist. de bombeo                                   Redes de agua regional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20960" y="5027760"/>
              <a:ext cx="5091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Puertos múltiples                             Puertos mineros especializad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22480" y="5384880"/>
              <a:ext cx="7121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mpamentos              Desarrollos urbanos                        Integración urbana regional  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06520" y="5751360"/>
              <a:ext cx="595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Trochas                   Carreteras afirmadas                      Integración vial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1400" y="6118200"/>
              <a:ext cx="664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pacit. Laboral             Escuelas técnicas                          Universidades especializad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24480" y="53737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24480" y="57405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24480" y="6107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1.- Produ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ine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288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iner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576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Concentr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86400" y="746280"/>
              <a:ext cx="36576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tales refin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746280"/>
              <a:ext cx="0" cy="611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920" y="6448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960" y="6507000"/>
              <a:ext cx="136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Medio Ambient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72360" y="6197760"/>
              <a:ext cx="2771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Mejoramiento (revegetación,                                                                                                reforestación, etc.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0920" y="6522480"/>
              <a:ext cx="3924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Impacto negativo           Mínimo impact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441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42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4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18:03Z</dcterms:modified>
  <cp:revision>1179</cp:revision>
  <dc:subject/>
  <dc:title>Sin título de diapositiva</dc:title>
</cp:coreProperties>
</file>